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13C0-0CEE-4AE0-8AB9-E264B2CA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641A-56F5-4971-B098-44EBB7FF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9F9A-9FDB-4CB7-8A37-95DDF3AE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A19F-3479-4B6B-8B14-88C599FF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2DD8-6F6A-4A2A-B370-FFD717E9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2CE0-CAA0-41EE-98B5-F711DA53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B02A-BC23-451C-B3A9-70ADE08D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AFB9-2466-433C-98E2-130E7325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8DC7-C59C-4942-8F74-59F39A83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5677-C7E4-495C-84F9-AEBAB37C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AEB7-8AA6-43C0-BECD-367009B1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E5D7-E1E9-4C5F-A0A6-6F0A258C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CS LAL 23/9/05 J.E Campag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CC44-DC13-40DB-B51D-D0DFC7E13C9E}" type="slidenum">
              <a:rPr b="0" lang="en-US" sz="1400" spc="-1" strike="noStrike">
                <a:solidFill>
                  <a:srgbClr val="33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scillations des Neutrin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3886200"/>
            <a:ext cx="8351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Comic Sans MS"/>
              </a:rPr>
              <a:t>OPERA-LA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Comic Sans MS"/>
              </a:rPr>
              <a:t>R&amp;D PMM2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Comic Sans MS"/>
              </a:rPr>
              <a:t>Programme Neutrinos sur Acc. France… 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9800" y="1216080"/>
            <a:ext cx="7719840" cy="5452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2K-I 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2K-I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33640" y="1365120"/>
            <a:ext cx="6876720" cy="4943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763640" y="5950080"/>
            <a:ext cx="2087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PERA/CNG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Composition du groupe LAL: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J-P Repellin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éméritat,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J. Boucrot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prendra sa retraite mi-2006 (nb: A. Cazes en post-doc à Frascati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Activité principale centrée sur la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maintenance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du code de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Tracking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car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Électronique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(« très robuste » d’après Y. Declais)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Pas de propositions de thèse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pour le moment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Concernant les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Cornes CNGS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Comic Sans MS"/>
              </a:rPr>
              <a:t>(depuis l’évaluation CNRS de Fév. 05):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Connexion Électrique Rapide acceptée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sans réserve par le CER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Conducteur Interne du Réflecteur réceptionné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conjointement par le LAL et le CER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Corne n°2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livrée non modifié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Le CERN  a quelques difficultés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à mettre en œuvre les modifications qu’il souhaitait effectuer sur la Corne n°1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Fin du partenariat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CERN-IN2P3-LAL au terme d’un C.S.P le 7/10/05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Comic Sans MS"/>
              </a:rPr>
              <a:t>News d’OPERA au G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755640" y="1052640"/>
            <a:ext cx="7237440" cy="54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6920" y="1557360"/>
            <a:ext cx="70329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1er aimant: 100%, 2nd en cours de mo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100% des RPCs fonction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2/3 du SM1 équipé de murs de Tracker + Support des Br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La machine à assembler les Briques fonctionne parfaitement (production début janvier 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1er manipulateur de Briques opérationnel au L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78% des émulsions produites, 50% prêtes, 30% au 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Microscope Japonais a atteint la vitesse nominale (20cm</a:t>
            </a:r>
            <a:r>
              <a:rPr b="1" lang="fr-FR" sz="1800" spc="-1" strike="noStrike" baseline="30000">
                <a:solidFill>
                  <a:srgbClr val="3366ff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/h) avec potentialité d’un facteu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6 microscopes Europe ont atteint la vitesse nom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Pb a du retard (procédure de lav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Financement du 2nd Precision Tra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Financement des 22% des émulsions restantes (réunion des Agences de Moyens prévues d’ici pe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74720" y="604044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isceau Mai 2006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300720" y="0"/>
            <a:ext cx="28432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R&amp;D PMM2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Comic Sans MS"/>
              </a:rPr>
              <a:t>Futur « projet » en gestation:</a:t>
            </a:r>
            <a:r>
              <a:rPr b="0" lang="fr-FR" sz="2800" spc="-1" strike="noStrike">
                <a:solidFill>
                  <a:srgbClr val="ff0000"/>
                </a:solidFill>
                <a:latin typeface="Comic Sans MS"/>
              </a:rPr>
              <a:t> Détecteur MEMPHYS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(20 x SuperK) au Fréjus</a:t>
            </a:r>
            <a:r>
              <a:rPr b="0" lang="fr-FR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le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prix des PMTs est un facteur déterminant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: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Photonis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est sur les rangs avec une solution « petits PMTs »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Électronique Frontale associée (ANR/GIS Photonis)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Partenaires: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IPNO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(4 I dont J. Pouthas, 1AI, 1Proj.),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LAL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(Ch. De La Taille, N. Seguin-Moreau, 1 P.Doc),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Photonis.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Part du LAL: étude de l’ASIC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de lecture (ADC/TDC compris) de 16 canaux (mi-2005 </a:t>
            </a:r>
            <a:r>
              <a:rPr b="0" lang="fr-FR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mi-2007).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Part l’IPNO: mécanique (immersion dans l’eau) + tests PMTs avec Photonis (déjà dans le cadre du GIP).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Demande globale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ANR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à hauteur de 700k€ (36mois) dont 200k€ pour PMM2 dont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50k€ pour le LAL. Si l’ANR ne répond pas 10k€ permettrait d’amorcer la pompe.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Comic Sans MS"/>
              </a:rPr>
              <a:t>D’autres labos sont intéressés: LLR, LPNHE, DAPNIA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5253120" y="6093000"/>
            <a:ext cx="388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Arial"/>
              </a:rPr>
              <a:t>PMM2: PhotoMultiplicateur pour 1m</a:t>
            </a:r>
            <a:r>
              <a:rPr b="0" lang="fr-FR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Electronic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8600" y="2109960"/>
            <a:ext cx="8077320" cy="26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Trigger @ ¼ p.e (3kHz from SK)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TDC: 12bits 0,4ns/c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ADC: 12bits 0,15pC/c with 1 p.e @ 20-30 adc channels.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High speed digital readout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Comic Sans MS"/>
              </a:rPr>
              <a:t>Cost reduction</a:t>
            </a: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 thanks to high level of integration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Comic Sans MS"/>
              </a:rPr>
              <a:t>Use AMS 0,35</a:t>
            </a:r>
            <a:r>
              <a:rPr b="0" lang="en-GB" sz="24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9999"/>
                </a:solidFill>
                <a:latin typeface="Comic Sans MS"/>
              </a:rPr>
              <a:t>m BiCMOS ASIC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008000"/>
            <a:ext cx="69613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Taken in charge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LAL: from amplifier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up to ADC/TDC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based on past experience with similar state of the art front-end electronics developed for OPERA, W-Si ILC prototype, LHCb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879560" y="4384800"/>
            <a:ext cx="6317640" cy="2220840"/>
            <a:chOff x="1879560" y="4384800"/>
            <a:chExt cx="6317640" cy="2220840"/>
          </a:xfrm>
        </p:grpSpPr>
        <p:sp>
          <p:nvSpPr>
            <p:cNvPr id="57" name=""/>
            <p:cNvSpPr/>
            <p:nvPr/>
          </p:nvSpPr>
          <p:spPr>
            <a:xfrm>
              <a:off x="1879560" y="4681440"/>
              <a:ext cx="5978520" cy="1924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49440" y="4890960"/>
              <a:ext cx="930240" cy="1519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Comic Sans MS"/>
                </a:rPr>
                <a:t>Ampli</a:t>
              </a: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53160" y="4897440"/>
              <a:ext cx="285192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Slow shap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75480" y="6032520"/>
              <a:ext cx="278208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Fast shap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53520" y="4897440"/>
              <a:ext cx="191484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Comic Sans MS"/>
                </a:rPr>
                <a:t>S&amp;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477040" y="5921280"/>
              <a:ext cx="777600" cy="628920"/>
              <a:chOff x="5477040" y="5921280"/>
              <a:chExt cx="777600" cy="628920"/>
            </a:xfrm>
          </p:grpSpPr>
          <p:sp>
            <p:nvSpPr>
              <p:cNvPr id="63" name=""/>
              <p:cNvSpPr/>
              <p:nvPr/>
            </p:nvSpPr>
            <p:spPr>
              <a:xfrm>
                <a:off x="5609880" y="6043320"/>
                <a:ext cx="524880" cy="384120"/>
              </a:xfrm>
              <a:custGeom>
                <a:avLst/>
                <a:gdLst/>
                <a:ahLst/>
                <a:rect l="l" t="t" r="r" b="b"/>
                <a:pathLst>
                  <a:path w="679" h="352">
                    <a:moveTo>
                      <a:pt x="679" y="0"/>
                    </a:moveTo>
                    <a:lnTo>
                      <a:pt x="344" y="0"/>
                    </a:lnTo>
                    <a:lnTo>
                      <a:pt x="344" y="352"/>
                    </a:lnTo>
                    <a:lnTo>
                      <a:pt x="0" y="352"/>
                    </a:lnTo>
                  </a:path>
                </a:pathLst>
              </a:cu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477040" y="5921280"/>
                <a:ext cx="777600" cy="628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5875560" y="6032520"/>
              <a:ext cx="188892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Comic Sans MS"/>
                </a:rPr>
                <a:t>T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68000" y="4897440"/>
              <a:ext cx="191016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Comic Sans MS"/>
                </a:rPr>
                <a:t>A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96760" y="5521320"/>
              <a:ext cx="218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Comic Sans MS"/>
                </a:rPr>
                <a:t>Trig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12720" y="4384800"/>
              <a:ext cx="218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Comic Sans MS"/>
                </a:rPr>
                <a:t>Trig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" name=""/>
            <p:cNvCxnSpPr>
              <a:stCxn id="68" idx="1"/>
              <a:endCxn id="61" idx="0"/>
            </p:cNvCxnSpPr>
            <p:nvPr/>
          </p:nvCxnSpPr>
          <p:spPr>
            <a:xfrm flipV="1" rot="10800000">
              <a:off x="5811120" y="4567320"/>
              <a:ext cx="799200" cy="329040"/>
            </a:xfrm>
            <a:prstGeom prst="curvedConnector2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58" idx="3"/>
              <a:endCxn id="59" idx="1"/>
            </p:cNvCxnSpPr>
            <p:nvPr/>
          </p:nvCxnSpPr>
          <p:spPr>
            <a:xfrm flipV="1">
              <a:off x="3379320" y="5100120"/>
              <a:ext cx="289440" cy="551520"/>
            </a:xfrm>
            <a:prstGeom prst="curvedConnector5">
              <a:avLst>
                <a:gd name="adj1" fmla="val 49937"/>
                <a:gd name="adj2" fmla="val 49967"/>
                <a:gd name="adj3" fmla="val 49937"/>
              </a:avLst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58" idx="3"/>
              <a:endCxn id="60" idx="1"/>
            </p:cNvCxnSpPr>
            <p:nvPr/>
          </p:nvCxnSpPr>
          <p:spPr>
            <a:xfrm>
              <a:off x="3379320" y="5651640"/>
              <a:ext cx="289440" cy="584640"/>
            </a:xfrm>
            <a:prstGeom prst="curvedConnector5">
              <a:avLst>
                <a:gd name="adj1" fmla="val 49937"/>
                <a:gd name="adj2" fmla="val 49969"/>
                <a:gd name="adj3" fmla="val 49937"/>
              </a:avLst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72" name=""/>
            <p:cNvCxnSpPr>
              <a:stCxn id="64" idx="0"/>
              <a:endCxn id="67" idx="1"/>
            </p:cNvCxnSpPr>
            <p:nvPr/>
          </p:nvCxnSpPr>
          <p:spPr>
            <a:xfrm flipH="1" flipV="1" rot="5400000">
              <a:off x="5821920" y="5748480"/>
              <a:ext cx="216360" cy="129240"/>
            </a:xfrm>
            <a:prstGeom prst="curvedConnector2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</p:grpSp>
      <p:sp>
        <p:nvSpPr>
          <p:cNvPr id="73" name=""/>
          <p:cNvSpPr/>
          <p:nvPr/>
        </p:nvSpPr>
        <p:spPr>
          <a:xfrm>
            <a:off x="1041480" y="52452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4640" y="5340240"/>
            <a:ext cx="2241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P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08920" y="4986360"/>
            <a:ext cx="2637000" cy="117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Dig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66" idx="3"/>
            <a:endCxn id="75" idx="1"/>
          </p:cNvCxnSpPr>
          <p:nvPr/>
        </p:nvCxnSpPr>
        <p:spPr>
          <a:xfrm>
            <a:off x="7179840" y="5100120"/>
            <a:ext cx="531000" cy="469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5" idx="3"/>
            <a:endCxn id="75" idx="1"/>
          </p:cNvCxnSpPr>
          <p:nvPr/>
        </p:nvCxnSpPr>
        <p:spPr>
          <a:xfrm flipV="1">
            <a:off x="7170480" y="5568480"/>
            <a:ext cx="540360" cy="66744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4" idx="3"/>
            <a:endCxn id="58" idx="1"/>
          </p:cNvCxnSpPr>
          <p:nvPr/>
        </p:nvCxnSpPr>
        <p:spPr>
          <a:xfrm>
            <a:off x="1769760" y="5630760"/>
            <a:ext cx="680040" cy="2160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419040" y="616572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Mechanics &amp; PM test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61080" y="2027160"/>
            <a:ext cx="3058920" cy="3338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rcRect l="3556" t="9778" r="8893" b="3911"/>
          <a:stretch/>
        </p:blipFill>
        <p:spPr>
          <a:xfrm>
            <a:off x="1117440" y="2209680"/>
            <a:ext cx="2003760" cy="2154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55560" y="4753080"/>
            <a:ext cx="526104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asic unit that we want to build and test under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004080" y="4787640"/>
            <a:ext cx="314280" cy="5317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05160" y="2976480"/>
            <a:ext cx="23050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Electronic box water t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592000" y="3244680"/>
            <a:ext cx="668520" cy="144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32840" y="5388120"/>
            <a:ext cx="20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IP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35160" y="946080"/>
            <a:ext cx="69609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Taken in charge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PNO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: well experienced in photodetectors (last operation: Auger). With PHOTONIS tests of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PMT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8”, 9” </a:t>
            </a:r>
            <a:r>
              <a:rPr b="0" lang="en-GB" sz="1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12”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and Hybrid-PMT and H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Comic Sans MS"/>
              </a:rPr>
              <a:t>Résumé des activités Osc. </a:t>
            </a:r>
            <a:r>
              <a:rPr b="0" lang="fr-FR" sz="28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fr-FR" sz="2800" spc="-1" strike="noStrike">
                <a:solidFill>
                  <a:srgbClr val="333399"/>
                </a:solidFill>
                <a:latin typeface="Comic Sans MS"/>
              </a:rPr>
              <a:t> sur Acc. en France…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IPNL-IReS-LAPP-</a:t>
            </a:r>
            <a:r>
              <a:rPr b="0" i="1" lang="fr-FR" sz="2400" spc="-1" strike="noStrike">
                <a:solidFill>
                  <a:srgbClr val="333399"/>
                </a:solidFill>
                <a:latin typeface="Comic Sans MS"/>
              </a:rPr>
              <a:t>JE/JB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: OPERA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DAPNIA: K2K analyse du </a:t>
            </a:r>
            <a:r>
              <a:rPr b="0" lang="fr-FR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Id.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fr-FR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Č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DAPNIA  + LPNHE + LLR: T2K-I détecteur proche à 280m approuvé  : « Accélérateur » + TPC électronique FE (flux, spectre x-sections </a:t>
            </a:r>
            <a:r>
              <a:rPr b="0" lang="fr-FR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-H</a:t>
            </a:r>
            <a:r>
              <a:rPr b="0" lang="fr-FR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DAPNIA+IPNL+…: T2K-I détecteur proche à 2km non encore approuvé (2010?) mais nécessaire (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fr-FR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Č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 + LAr TPC)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Pré-étude de grande cavité au Fréjus en cours: 4 puits de 250,000m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3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réalisables (dixit société ayant construit le tunnel routier).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66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66cc"/>
                </a:solidFill>
                <a:latin typeface="Comic Sans MS"/>
              </a:rPr>
              <a:t>France: GDR </a:t>
            </a:r>
            <a:r>
              <a:rPr b="1" lang="fr-FR" sz="2400" spc="-1" strike="noStrike">
                <a:solidFill>
                  <a:srgbClr val="ff66cc"/>
                </a:solidFill>
                <a:latin typeface="Symbol"/>
                <a:ea typeface="Symbol"/>
              </a:rPr>
              <a:t></a:t>
            </a:r>
            <a:r>
              <a:rPr b="1" lang="fr-FR" sz="2400" spc="-1" strike="noStrike">
                <a:solidFill>
                  <a:srgbClr val="333399"/>
                </a:solidFill>
                <a:latin typeface="Symbol"/>
                <a:ea typeface="Symbol"/>
              </a:rPr>
              <a:t></a:t>
            </a:r>
            <a:r>
              <a:rPr b="0" lang="fr-FR" sz="2400" spc="-1" strike="noStrike">
                <a:solidFill>
                  <a:srgbClr val="333399"/>
                </a:solidFill>
                <a:latin typeface="Symbol"/>
                <a:ea typeface="Symbol"/>
              </a:rPr>
              <a:t></a:t>
            </a:r>
            <a:r>
              <a:rPr b="1" lang="fr-FR" sz="2400" spc="-1" strike="noStrike">
                <a:solidFill>
                  <a:srgbClr val="ff6600"/>
                </a:solidFill>
                <a:latin typeface="Comic Sans MS"/>
              </a:rPr>
              <a:t>Europe: BENE(CARE)</a:t>
            </a:r>
            <a:r>
              <a:rPr b="1" lang="fr-FR" sz="2400" spc="-1" strike="noStrike">
                <a:solidFill>
                  <a:srgbClr val="333399"/>
                </a:solidFill>
                <a:latin typeface="Symbol"/>
                <a:ea typeface="Symbol"/>
              </a:rPr>
              <a:t>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Mondial: 1 an Int. Scoping Studies: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1er WS au CERN 22-24/9/05, puis KEK jan. 06, RAL avr. 06 pour présenter à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 NuFact06 (US) le résultat et lancer une Design Study mondiale.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3240" y="64911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: 2009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Comic Sans MS"/>
              </a:rPr>
              <a:t>Actions de J.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236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Groupes Détecteur et Accélérateur dans la 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Scoping Studies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 SuperBeam et </a:t>
            </a:r>
            <a:r>
              <a:rPr b="1" lang="fr-FR" sz="2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Factory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52236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Simulation des performances de physique du 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SPL-Fréjus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52236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Combinaison 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SuperBeam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 (J.E) avec 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BetaBeam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 (M. Mezzetto) + </a:t>
            </a:r>
            <a:r>
              <a:rPr b="1" lang="fr-FR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ATM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 (Th. Schwetz, M. Maltoni) pour préparer une contribution à un livre blanc Mt-Fréju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52236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R&amp;D Électronique Mégatonne 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PMM2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52236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Pt. du C.S de Modane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 qui examinera dans ce cadre l’étude d’une nouvelle cavité pour le Mt.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2K-I, T2K-II:T2HK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5543280" cy="3810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5832720" cy="1133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16000" y="2205000"/>
            <a:ext cx="1871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27280" y="2205000"/>
            <a:ext cx="316872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72360" y="1484280"/>
            <a:ext cx="25207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roblème principal de T2K-II est  qu’ils ne pourront pas atteindre 4MW avec une techno. chau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1484280"/>
            <a:ext cx="3527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3860640"/>
            <a:ext cx="25210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ingénieurs de KEK anticipent un démarrage de T2K en douc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03080" y="6021360"/>
            <a:ext cx="303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K-I: p 50GeV/0,75kW, 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K-II: 4MW, HK: 20x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81800" y="6381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995640" y="6093000"/>
            <a:ext cx="0" cy="28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07:34:21Z</dcterms:created>
  <dc:creator>J.E Campagne</dc:creator>
  <dc:description/>
  <dc:language>en-US</dc:language>
  <cp:lastModifiedBy>J.E Campagne</cp:lastModifiedBy>
  <dcterms:modified xsi:type="dcterms:W3CDTF">2005-09-16T08:55:48Z</dcterms:modified>
  <cp:revision>34</cp:revision>
  <dc:subject/>
  <dc:title>Osc. Neutrinos</dc:title>
</cp:coreProperties>
</file>